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8.png" ContentType="image/png"/>
  <Override PartName="/ppt/media/image1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A6DB-A1F6-47D6-8D79-0E609906C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939F-65F8-469C-8545-AB473FF3AF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ATION FOR STUDENTS AND PARENT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01F7-3FA3-4EFF-B919-1B1F09B9F5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A76B-26A4-4950-AABA-37E1ED0C61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7EBE-D44D-4441-AF1F-FADE38E0702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C3D2-6ADF-4C0F-943D-011A65A67C1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A767-E9A8-43D6-BEB2-AF8035519D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6B5B-0EE5-45C9-9842-CBBE03DA7B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D0796-4E7E-4F83-B8D2-F5D724DA7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472B-E6D5-4E0B-946E-8E6A5584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84FCDF-3459-4B6F-98E9-6F97FC2BF7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30BDC7-B2B1-4107-934E-38F22F7BD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9E13E7-62CA-4934-89FB-C4042C1F5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02911-3E45-4418-9DE6-A00CC2CFF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6CC49-0307-4191-AF81-31F685AA0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5475F-766F-4677-9ED4-58031556D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351647-6FEF-4FBC-AD5B-C6CC1D898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C0B0AD-AC3D-4D90-940F-B6F421663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BB993F-38AD-4A9E-AACE-C0C2FC1619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E9A22-5952-4BBE-9F7C-5E084888F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2B3F1-0AC7-47C4-9265-C188E802B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F55AE-4617-4AE1-B180-962AAA4BF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35CFE-46A3-4227-A21F-31A56191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66B5C-BC50-49F8-B5DA-EA57E5077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1796D-AFAC-4AA3-887A-8D4FE1CBB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D0107-4FDF-4E4E-AA09-D8EE9381B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AB52B-AF85-46A6-8DAA-758ED19D0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E697D-D15F-4E28-B3C4-4FFEC5A6E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2C0FF-A65B-4837-AC69-B2ED5F9F1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5B10-098A-49B6-B07B-DA6B320EF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FCC0C-3172-4645-A374-E1E0594A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445FA-A36E-4BD8-9E37-F317E20DE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43D60-83EB-4925-AADA-C8F78EE5D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9687E-EE89-4429-A038-C7D5CE2D9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D64FF6-4A37-4723-8C0D-FF654789CF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C73A7-E25F-49FC-A6DF-9E1C41BBC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8E8A4-6DD9-4A7E-9787-5DA65E5DB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048CF-E091-4B59-897A-0E168C191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4F8821-26DE-4205-BF48-DD1717FCE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34FC-DC3A-44EE-8086-AA52288D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C4DB0-5E0E-4921-84CB-0069BD4ED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C3599-092F-48C8-9418-0CBF71328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C8425-24B5-4D22-8254-84088CDFC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3338E-59B2-49B6-95F6-A606F6FDC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14022-E9FA-4EB6-A172-614EFC88A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10263F-36A0-44F7-8401-6F72D3FF37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13ADE-934F-4737-B168-FB50071F3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D831B2-F98A-4580-9B14-25D4E012ED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327DA-B861-42D8-BC92-3443B68B8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19191-02A1-41DD-A3A7-1F7A73C57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21BF-BD5D-44F2-8CAC-4E39A71E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DC022-1D9D-4476-B82E-1103F1E0E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97B98-E2CA-4C3A-9359-B56173724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74168-368C-4488-A6EA-0BEB0BBEE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6162C-5155-461B-A7E1-89B313F06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242F3-621B-4879-9EF4-B7723D744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FD519-621B-4AC7-A7D4-38DAD8C43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EA490-946E-44FA-9C83-AEDE8FAB5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C7C63-87C5-4260-A1A9-F21A0D00B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8185D4-4ABA-4FE9-87E6-F8F29E7EC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7864B-76DD-445A-9604-80DA744E0F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3289-F4FB-446C-B4E4-5CD0AAE4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4E4F8-6866-4C3C-A792-0A45BF723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506FE0-61B6-44B0-99D9-02A7AD4B8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DD3D7-BF82-4FDC-A963-E4A9B0C3D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2316F-CAAA-4C3B-AA12-726E69FF5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8D28D-5995-44A7-A82B-07FA03E0F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49A11-96ED-449E-BCC4-148582D5E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87D91-4555-416D-9FE6-545781CF0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DC920-8ACD-4023-8ED7-D569678EC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C4125-EE93-4B9E-94AA-1716D2C25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203A1-21F5-45A1-82BC-00ECBF0DEB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BB96-7392-4978-8FC3-6FC62B53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08C37-6831-4274-961B-899BB0E3E6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E24A8C-8711-42ED-9F5E-2D2481277B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07AB8-E303-408B-BE4C-92514FF0E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FEBAE-EEBF-4FC3-94BE-A5F03FBAE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59193F-1879-40BE-884C-1D6EC234D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971BF-40DD-4693-9DD5-FE38F74AF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91B41-5DB2-4D6D-B12B-93F455AD0E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964E2-EDD8-4C39-93B4-094B16880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2EF4C-8017-431F-BE70-A4782688B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B2391-3953-4CD7-81D1-671F6284B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8FCB-2D70-47DA-BDF5-4267D101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B3A3A-985A-4B56-949C-1BE98381A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2115F3-4659-4BB5-9EA8-1F0B91D469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88721A-735E-423B-BCD0-EAD3A013F4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84714C-C68D-4C90-8A6C-56245AE38E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BF0502-5843-4A44-A124-2F5607D5D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AF9A54-6D23-4662-8BAE-00406049A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9745C-3848-4BC0-B9F9-A5C99BF48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0624C-38D8-4D5B-86B7-1C64AE87D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05C67-7A2B-45B1-9CFC-08E5BCFB0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3B359-2AA3-4552-B8AF-2D247E98E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85B1-410D-4EAF-AAC7-F8424F8C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0540A-0364-46C9-A31B-1BBAD6768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534CE-5ED2-4C36-ACA5-51CC4DB60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404B8-4405-464F-B9CC-118D80B7E0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BAF06-AEC3-4E34-8402-CA31B39DC4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B84958-85BB-4F3C-8BC7-9F8930514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73063E-4A71-4915-817C-CD79B1585E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CE8AF-6063-428A-9052-6F0B129D9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E8A16-DCD5-4680-8F5A-3CED18C99C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BFEC7-F171-4926-84E9-3B104B925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D43A6-2600-4DB8-ABBC-8A19720B4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AFA2-01A3-477A-885C-F8DE61DA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806AF-16C0-4904-8F0E-CB4992C5A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04567-E91D-47D0-843C-F3CA9DEB2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52230-E82B-4E9D-8C11-13BE741FD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3BA73-4F81-4E00-BEAD-CF3D6761C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7A92F-FCF9-435C-9C7A-850FF53ED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39AE83-410F-436C-BEE4-93664FE55C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7D87DE-DEE0-4370-93D9-1B71F78511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75CA16-5DE9-4C82-8F2F-7494FDA25D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57F56-FB17-4646-9ADB-C418D792B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E3CEF-A113-4990-A49D-376D59C666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A669-5D45-4B8E-B18D-03F838523AA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7FF2-D544-4FB1-8BE6-BE9CCD950E8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0080-3964-4B77-874A-DBD5B2D3F29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ffffff"/>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13F1-1902-41C3-822A-074B8E4B3A42}"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9232-B795-4F7E-94AD-3923FCAE190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DF03-44F4-4CA7-BB59-9E0D027F14C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81B2-2F34-40DB-A24F-DCB63A7B154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9AA2-9E10-4192-91CD-D26FC69F1ED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224F-96F2-4D7F-9990-9C9BEF82B00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I:\DSC01447.JPG"/>
          <p:cNvPicPr/>
          <p:nvPr/>
        </p:nvPicPr>
        <p:blipFill>
          <a:blip r:embed="rId1"/>
          <a:stretch/>
        </p:blipFill>
        <p:spPr>
          <a:xfrm>
            <a:off x="0" y="0"/>
            <a:ext cx="9144000" cy="6858000"/>
          </a:xfrm>
          <a:prstGeom prst="rect">
            <a:avLst/>
          </a:prstGeom>
          <a:ln w="0">
            <a:noFill/>
          </a:ln>
        </p:spPr>
      </p:pic>
      <p:pic>
        <p:nvPicPr>
          <p:cNvPr id="407" name="Rectangle 5" descr=""/>
          <p:cNvPicPr/>
          <p:nvPr/>
        </p:nvPicPr>
        <p:blipFill>
          <a:blip r:embed="rId2"/>
          <a:stretch/>
        </p:blipFill>
        <p:spPr>
          <a:xfrm>
            <a:off x="298440" y="2693880"/>
            <a:ext cx="8547120" cy="1494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1026" descr=""/>
          <p:cNvPicPr/>
          <p:nvPr/>
        </p:nvPicPr>
        <p:blipFill>
          <a:blip r:embed="rId1"/>
          <a:stretch/>
        </p:blipFill>
        <p:spPr>
          <a:xfrm>
            <a:off x="12600" y="324000"/>
            <a:ext cx="8985240" cy="1511280"/>
          </a:xfrm>
          <a:prstGeom prst="rect">
            <a:avLst/>
          </a:prstGeom>
          <a:ln w="0">
            <a:noFill/>
          </a:ln>
        </p:spPr>
      </p:pic>
      <p:sp>
        <p:nvSpPr>
          <p:cNvPr id="441" name=""/>
          <p:cNvSpPr txBox="1"/>
          <p:nvPr/>
        </p:nvSpPr>
        <p:spPr>
          <a:xfrm>
            <a:off x="457200" y="1219320"/>
            <a:ext cx="82296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ANGUAGE Ab Initio</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second language can also be studied at Ab Initio leve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 Initio is designed for students with little or no previous experience of the language.</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an only be studied at Standard leve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At JIRS it is possible to stud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Hindi A1/B at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French B/Ab initio at SL</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43"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792C-C431-4318-99CD-0DD52F7DC0E1}"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12600" y="324000"/>
            <a:ext cx="8985240" cy="1511280"/>
          </a:xfrm>
          <a:prstGeom prst="rect">
            <a:avLst/>
          </a:prstGeom>
          <a:ln w="0">
            <a:noFill/>
          </a:ln>
        </p:spPr>
      </p:pic>
      <p:sp>
        <p:nvSpPr>
          <p:cNvPr id="445"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INDIVIDUALS AND SOCIETY</a:t>
            </a:r>
            <a:endParaRPr b="0" lang="en-US" sz="36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subjects available at JIRS are:</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conomics at HL </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usiness and Management at HL </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formation Technology in a Global Society (ITGS) at SL</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vironmental Systems and Societies[Transdisciplinary subject] SL</a:t>
            </a:r>
            <a:endParaRPr b="0" lang="en-US" sz="2400" spc="-1" strike="noStrike">
              <a:solidFill>
                <a:srgbClr val="4e3b3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46" name="Footer Placeholder 6"/>
          <p:cNvSpPr/>
          <p:nvPr/>
        </p:nvSpPr>
        <p:spPr>
          <a:xfrm>
            <a:off x="838080" y="6356520"/>
            <a:ext cx="51818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47"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438-CEB2-4A6C-9E0C-250C143BEB85}"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1026" descr=""/>
          <p:cNvPicPr/>
          <p:nvPr/>
        </p:nvPicPr>
        <p:blipFill>
          <a:blip r:embed="rId1"/>
          <a:stretch/>
        </p:blipFill>
        <p:spPr>
          <a:xfrm>
            <a:off x="12600" y="324000"/>
            <a:ext cx="8985240" cy="1511280"/>
          </a:xfrm>
          <a:prstGeom prst="rect">
            <a:avLst/>
          </a:prstGeom>
          <a:ln w="0">
            <a:noFill/>
          </a:ln>
        </p:spPr>
      </p:pic>
      <p:sp>
        <p:nvSpPr>
          <p:cNvPr id="449" name=""/>
          <p:cNvSpPr txBox="1"/>
          <p:nvPr/>
        </p:nvSpPr>
        <p:spPr>
          <a:xfrm>
            <a:off x="456840" y="1599840"/>
            <a:ext cx="8381880" cy="480060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Franklin Gothic Book"/>
              </a:rPr>
              <a:t>EXPERIMENTAL SCIENCES</a:t>
            </a:r>
            <a:endParaRPr b="0" lang="en-US" sz="4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JIRS we offer:</a:t>
            </a:r>
            <a:endParaRPr b="0" lang="en-US" sz="32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iology at HL or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at HL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ysics at HL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vironmental Systems and Societies SL</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ransdisciplinary subject covered under group 3 or 4 depending on the subject options</a:t>
            </a:r>
            <a:endParaRPr b="0" lang="en-US" sz="28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0" name="Footer Placeholder 6"/>
          <p:cNvSpPr/>
          <p:nvPr/>
        </p:nvSpPr>
        <p:spPr>
          <a:xfrm>
            <a:off x="990720" y="6356520"/>
            <a:ext cx="50292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D30A-70C5-4F51-AF9E-81E13CF0DB7D}"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12600" y="324000"/>
            <a:ext cx="8985240" cy="151128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MATHEMATICS AND COMPUTER SCIENCE</a:t>
            </a:r>
            <a:endParaRPr b="0" lang="en-US" sz="36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t JIRS, we offer a Maths course to accommodate the different ability and interest groups</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thematics HL</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thematics S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mputer Science (SL) may also be studied but only </a:t>
            </a:r>
            <a:r>
              <a:rPr b="0" lang="en-US" sz="2400" spc="-1" strike="noStrike" u="sng">
                <a:solidFill>
                  <a:srgbClr val="4e3b30"/>
                </a:solidFill>
                <a:uFillTx/>
                <a:latin typeface="Franklin Gothic Book"/>
              </a:rPr>
              <a:t>in addition to</a:t>
            </a:r>
            <a:r>
              <a:rPr b="0" lang="en-US" sz="2400" spc="-1" strike="noStrike">
                <a:solidFill>
                  <a:srgbClr val="4e3b30"/>
                </a:solidFill>
                <a:latin typeface="Franklin Gothic Book"/>
              </a:rPr>
              <a:t>, not instead of, Math.</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4" name="Footer Placeholder 6"/>
          <p:cNvSpPr/>
          <p:nvPr/>
        </p:nvSpPr>
        <p:spPr>
          <a:xfrm>
            <a:off x="1143000" y="6095880"/>
            <a:ext cx="48769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5"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F4E8-0938-4E0C-BD73-0B75F09442D6}"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12600" y="324000"/>
            <a:ext cx="8985240" cy="151128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Franklin Gothic Book"/>
              </a:rPr>
              <a:t>THE ARTS AND ELECTIVES</a:t>
            </a:r>
            <a:endParaRPr b="0" lang="en-US" sz="4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isual ar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third language or a second science or a second Group 3 subjec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All are available at SL</a:t>
            </a:r>
            <a:endParaRPr b="0" lang="en-US" sz="3200" spc="-1" strike="noStrike">
              <a:solidFill>
                <a:srgbClr val="4e3b30"/>
              </a:solidFill>
              <a:latin typeface="Franklin Gothic Book"/>
            </a:endParaRPr>
          </a:p>
        </p:txBody>
      </p:sp>
      <p:sp>
        <p:nvSpPr>
          <p:cNvPr id="458" name="Footer Placeholder 6"/>
          <p:cNvSpPr/>
          <p:nvPr/>
        </p:nvSpPr>
        <p:spPr>
          <a:xfrm>
            <a:off x="609480" y="60199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9"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8C1A-F14D-4C3F-99E9-B9BC651044E3}"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stead of taking one of the arts courses in Group 6, the students may choose an additional subject from one of the other group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allows students to specialize a little bit, as they might want to do two social sciences, or two experimental sciences</a:t>
            </a:r>
            <a:endParaRPr b="0" lang="en-US" sz="3200" spc="-1" strike="noStrike">
              <a:solidFill>
                <a:srgbClr val="4e3b30"/>
              </a:solidFill>
              <a:latin typeface="Franklin Gothic Book"/>
            </a:endParaRPr>
          </a:p>
        </p:txBody>
      </p:sp>
      <p:sp>
        <p:nvSpPr>
          <p:cNvPr id="462" name="Footer Placeholder 6"/>
          <p:cNvSpPr/>
          <p:nvPr/>
        </p:nvSpPr>
        <p:spPr>
          <a:xfrm>
            <a:off x="762120" y="6095880"/>
            <a:ext cx="525780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63"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4A6A-6F52-4610-9006-393E06B749E6}"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4" descr=""/>
          <p:cNvPicPr/>
          <p:nvPr/>
        </p:nvPicPr>
        <p:blipFill>
          <a:blip r:embed="rId1"/>
          <a:stretch/>
        </p:blipFill>
        <p:spPr>
          <a:xfrm>
            <a:off x="103320" y="189000"/>
            <a:ext cx="8894520" cy="1689120"/>
          </a:xfrm>
          <a:prstGeom prst="rect">
            <a:avLst/>
          </a:prstGeom>
          <a:ln w="0">
            <a:noFill/>
          </a:ln>
        </p:spPr>
      </p:pic>
      <p:sp>
        <p:nvSpPr>
          <p:cNvPr id="465" name=""/>
          <p:cNvSpPr txBox="1"/>
          <p:nvPr/>
        </p:nvSpPr>
        <p:spPr>
          <a:xfrm>
            <a:off x="457200" y="1599840"/>
            <a:ext cx="4495680" cy="472428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Franklin Gothic Book"/>
              </a:rPr>
              <a:t>FOR ENGINEERING </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glish A1 SL </a:t>
            </a:r>
            <a:r>
              <a:rPr b="0" lang="en-US" sz="2800" spc="-1" strike="noStrike">
                <a:solidFill>
                  <a:srgbClr val="ff0000"/>
                </a:solidFill>
                <a:latin typeface="Franklin Gothic Book"/>
              </a:rPr>
              <a:t>(1)</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ndi/French SL </a:t>
            </a:r>
            <a:r>
              <a:rPr b="0" lang="en-US" sz="2800" spc="-1" strike="noStrike">
                <a:solidFill>
                  <a:srgbClr val="ff0000"/>
                </a:solidFill>
                <a:latin typeface="Franklin Gothic Book"/>
              </a:rPr>
              <a:t>(2)</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GS SL/ESS </a:t>
            </a:r>
            <a:r>
              <a:rPr b="0" lang="en-US" sz="2800" spc="-1" strike="noStrike">
                <a:solidFill>
                  <a:srgbClr val="ff0000"/>
                </a:solidFill>
                <a:latin typeface="Franklin Gothic Book"/>
              </a:rPr>
              <a:t>(3) [SL]</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ysics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athematics HL </a:t>
            </a:r>
            <a:r>
              <a:rPr b="0" lang="en-US" sz="2800" spc="-1" strike="noStrike">
                <a:solidFill>
                  <a:srgbClr val="ff0000"/>
                </a:solidFill>
                <a:latin typeface="Franklin Gothic Book"/>
              </a:rPr>
              <a:t>(5)</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r>
              <a:rPr b="0" lang="en-US" sz="2800" spc="-1" strike="noStrike">
                <a:solidFill>
                  <a:srgbClr val="ff0000"/>
                </a:solidFill>
                <a:latin typeface="Franklin Gothic Book"/>
              </a:rPr>
              <a:t>*optional  7</a:t>
            </a:r>
            <a:r>
              <a:rPr b="0" lang="en-US" sz="2800" spc="-1" strike="noStrike" baseline="30000">
                <a:solidFill>
                  <a:srgbClr val="ff0000"/>
                </a:solidFill>
                <a:latin typeface="Franklin Gothic Book"/>
              </a:rPr>
              <a:t>th</a:t>
            </a:r>
            <a:r>
              <a:rPr b="0" lang="en-US" sz="2800" spc="-1" strike="noStrike">
                <a:solidFill>
                  <a:srgbClr val="ff0000"/>
                </a:solidFill>
                <a:latin typeface="Franklin Gothic Book"/>
              </a:rPr>
              <a:t> subject</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66" name=""/>
          <p:cNvSpPr txBox="1"/>
          <p:nvPr/>
        </p:nvSpPr>
        <p:spPr>
          <a:xfrm>
            <a:off x="4647960" y="1599840"/>
            <a:ext cx="4190760" cy="453060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Franklin Gothic Book"/>
              </a:rPr>
              <a:t>FOR MEDICINE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glish A1 SL </a:t>
            </a:r>
            <a:r>
              <a:rPr b="0" lang="en-US" sz="2800" spc="-1" strike="noStrike">
                <a:solidFill>
                  <a:srgbClr val="ff0000"/>
                </a:solidFill>
                <a:latin typeface="Franklin Gothic Book"/>
              </a:rPr>
              <a:t>(1)</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ndi/French SL </a:t>
            </a:r>
            <a:r>
              <a:rPr b="0" lang="en-US" sz="2800" spc="-1" strike="noStrike">
                <a:solidFill>
                  <a:srgbClr val="ff0000"/>
                </a:solidFill>
                <a:latin typeface="Franklin Gothic Book"/>
              </a:rPr>
              <a:t>(2)</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SS [3]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iolog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athematics SL </a:t>
            </a:r>
            <a:r>
              <a:rPr b="0" lang="en-US" sz="2800" spc="-1" strike="noStrike">
                <a:solidFill>
                  <a:srgbClr val="ff0000"/>
                </a:solidFill>
                <a:latin typeface="Franklin Gothic Book"/>
              </a:rPr>
              <a:t>(5)</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r>
              <a:rPr b="0" lang="en-US" sz="2800" spc="-1" strike="noStrike">
                <a:solidFill>
                  <a:srgbClr val="ff0000"/>
                </a:solidFill>
                <a:latin typeface="Franklin Gothic Book"/>
              </a:rPr>
              <a:t>optional 7</a:t>
            </a:r>
            <a:r>
              <a:rPr b="0" lang="en-US" sz="2800" spc="-1" strike="noStrike" baseline="30000">
                <a:solidFill>
                  <a:srgbClr val="ff0000"/>
                </a:solidFill>
                <a:latin typeface="Franklin Gothic Book"/>
              </a:rPr>
              <a:t>th</a:t>
            </a:r>
            <a:r>
              <a:rPr b="0" lang="en-US" sz="2800" spc="-1" strike="noStrike">
                <a:solidFill>
                  <a:srgbClr val="ff0000"/>
                </a:solidFill>
                <a:latin typeface="Franklin Gothic Book"/>
              </a:rPr>
              <a:t> subject</a:t>
            </a:r>
            <a:endParaRPr b="0" lang="en-US" sz="2800" spc="-1" strike="noStrike">
              <a:solidFill>
                <a:srgbClr val="4e3b30"/>
              </a:solidFill>
              <a:latin typeface="Franklin Gothic Book"/>
            </a:endParaRPr>
          </a:p>
        </p:txBody>
      </p:sp>
      <p:sp>
        <p:nvSpPr>
          <p:cNvPr id="467" name="Footer Placeholder 8"/>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68" name="Slide Number Placeholder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C883-0881-4E16-94F4-E1A61A802447}"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1523880" y="456120"/>
            <a:ext cx="56390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BUSINESS MANAGEMENT</a:t>
            </a:r>
            <a:endParaRPr b="0" lang="en-US" sz="2400" spc="-1" strike="noStrike">
              <a:solidFill>
                <a:srgbClr val="000000"/>
              </a:solidFill>
              <a:latin typeface="Verdana"/>
            </a:endParaRPr>
          </a:p>
        </p:txBody>
      </p:sp>
      <p:sp>
        <p:nvSpPr>
          <p:cNvPr id="470" name="Text Box 3"/>
          <p:cNvSpPr/>
          <p:nvPr/>
        </p:nvSpPr>
        <p:spPr>
          <a:xfrm>
            <a:off x="1828800" y="1143000"/>
            <a:ext cx="54100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lish A1 SL/HL </a:t>
            </a:r>
            <a:r>
              <a:rPr b="0" lang="en-US" sz="2800" spc="-1" strike="noStrike">
                <a:solidFill>
                  <a:srgbClr val="ff0000"/>
                </a:solidFill>
                <a:latin typeface="Verdana"/>
              </a:rPr>
              <a:t>(1)</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ndi/French SL </a:t>
            </a:r>
            <a:r>
              <a:rPr b="0" lang="en-US" sz="2800" spc="-1" strike="noStrike">
                <a:solidFill>
                  <a:srgbClr val="ff0000"/>
                </a:solidFill>
                <a:latin typeface="Verdana"/>
              </a:rPr>
              <a:t>(2)</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onomics HL </a:t>
            </a:r>
            <a:r>
              <a:rPr b="0" lang="en-US" sz="2800" spc="-1" strike="noStrike">
                <a:solidFill>
                  <a:srgbClr val="ff0000"/>
                </a:solidFill>
                <a:latin typeface="Verdana"/>
              </a:rPr>
              <a:t>(3)</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iness and mgt HL </a:t>
            </a:r>
            <a:r>
              <a:rPr b="0" lang="en-US" sz="2800" spc="-1" strike="noStrike">
                <a:solidFill>
                  <a:srgbClr val="ff0000"/>
                </a:solidFill>
                <a:latin typeface="Verdana"/>
              </a:rPr>
              <a:t>(3)</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ology SL/ESS SL </a:t>
            </a:r>
            <a:r>
              <a:rPr b="0" lang="en-US" sz="2800" spc="-1" strike="noStrike">
                <a:solidFill>
                  <a:srgbClr val="ff0000"/>
                </a:solidFill>
                <a:latin typeface="Verdana"/>
              </a:rPr>
              <a:t>(4)</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s SL </a:t>
            </a:r>
            <a:r>
              <a:rPr b="0" lang="en-US" sz="2800" spc="-1" strike="noStrike">
                <a:solidFill>
                  <a:srgbClr val="ff0000"/>
                </a:solidFill>
                <a:latin typeface="Verdana"/>
              </a:rPr>
              <a:t>(5)</a:t>
            </a:r>
            <a:endParaRPr b="0" lang="en-US" sz="2800" spc="-1" strike="noStrike">
              <a:solidFill>
                <a:srgbClr val="000000"/>
              </a:solidFill>
              <a:latin typeface="Verdana"/>
            </a:endParaRPr>
          </a:p>
        </p:txBody>
      </p:sp>
      <p:sp>
        <p:nvSpPr>
          <p:cNvPr id="471" name="Footer Placeholder 6"/>
          <p:cNvSpPr/>
          <p:nvPr/>
        </p:nvSpPr>
        <p:spPr>
          <a:xfrm>
            <a:off x="914400" y="6356520"/>
            <a:ext cx="51055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FB69-5E66-4670-A53C-1031D1DD57E3}"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2" descr=""/>
          <p:cNvPicPr/>
          <p:nvPr/>
        </p:nvPicPr>
        <p:blipFill>
          <a:blip r:embed="rId1"/>
          <a:stretch/>
        </p:blipFill>
        <p:spPr>
          <a:xfrm>
            <a:off x="103320" y="450720"/>
            <a:ext cx="8894520" cy="1152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is another course that diploma candidates must take</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udents have two 45-minute lessons of TOK per (5 day) week</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course is described as “</a:t>
            </a:r>
            <a:r>
              <a:rPr b="0" i="1" lang="en-US" sz="2000" spc="-1" strike="noStrike">
                <a:solidFill>
                  <a:srgbClr val="4e3b30"/>
                </a:solidFill>
                <a:latin typeface="Franklin Gothic Book"/>
              </a:rPr>
              <a:t>an interdisciplinary requirement intended to stimulate critical reflection on the knowledge and experience gained inside and outside the classroom. The course challenges students to question the bases of knowledge, to be aware of subjective and ideological biases and to develop the ability to analyse evidence”</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re is no exam in TOK but the students write essays and a short presentation on which they are graded</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75" name="Footer Placeholder 6"/>
          <p:cNvSpPr/>
          <p:nvPr/>
        </p:nvSpPr>
        <p:spPr>
          <a:xfrm>
            <a:off x="838080" y="6356520"/>
            <a:ext cx="51818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76"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6A97-E3F4-4F18-81CD-C859C9FE9E4E}"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73080" y="414360"/>
            <a:ext cx="8924760" cy="1268280"/>
          </a:xfrm>
          <a:prstGeom prst="rect">
            <a:avLst/>
          </a:prstGeom>
          <a:ln w="0">
            <a:noFill/>
          </a:ln>
        </p:spPr>
      </p:pic>
      <p:sp>
        <p:nvSpPr>
          <p:cNvPr id="478"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diploma candidate writes an “Extended Essay’ which is a 4,000 word research essay</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students choose a subject in which they have a particular interest  and then narrow it down to a specific research question.</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ork should begin in the latter part of the Grade 11 year. The first draft is due in October of Grade 12 so it is very strongly recommended that a great deal of work is done over the summer between Grade 11 and Grade 12.</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ll the Extended Essays are sent away to be marked by IB examiners</a:t>
            </a:r>
            <a:endParaRPr b="0" lang="en-US" sz="2400" spc="-1" strike="noStrike">
              <a:solidFill>
                <a:srgbClr val="4e3b30"/>
              </a:solidFill>
              <a:latin typeface="Franklin Gothic Book"/>
            </a:endParaRPr>
          </a:p>
        </p:txBody>
      </p:sp>
      <p:sp>
        <p:nvSpPr>
          <p:cNvPr id="479" name="Footer Placeholder 6"/>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678A-1A03-4645-A0CC-277AA32E3BF9}"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378000" y="225360"/>
            <a:ext cx="8424720" cy="5900760"/>
          </a:xfrm>
          <a:prstGeom prst="rect">
            <a:avLst/>
          </a:prstGeom>
          <a:ln w="0">
            <a:noFill/>
          </a:ln>
        </p:spPr>
      </p:pic>
      <p:sp>
        <p:nvSpPr>
          <p:cNvPr id="409" name="Footer Placeholder 9"/>
          <p:cNvSpPr/>
          <p:nvPr/>
        </p:nvSpPr>
        <p:spPr>
          <a:xfrm>
            <a:off x="685800" y="6248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0" name="Slide Number Placeholder 8"/>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B8FE-B132-470B-9A8F-7BD77B1681D9}"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11" name="Rectangle 6" descr=""/>
          <p:cNvPicPr/>
          <p:nvPr/>
        </p:nvPicPr>
        <p:blipFill>
          <a:blip r:embed="rId2"/>
          <a:stretch/>
        </p:blipFill>
        <p:spPr>
          <a:xfrm>
            <a:off x="19599120" y="4102200"/>
            <a:ext cx="8942400" cy="3468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73080" y="414360"/>
            <a:ext cx="8924760" cy="126828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S stands for Creativity, Action and Servic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t provides balance to the academic content of the Diplom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l students must participate in activities in each of the three area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atisfactory participation is essential for the IB Diploma or Certificates</a:t>
            </a:r>
            <a:endParaRPr b="0" lang="en-US" sz="3200" spc="-1" strike="noStrike">
              <a:solidFill>
                <a:srgbClr val="4e3b30"/>
              </a:solidFill>
              <a:latin typeface="Franklin Gothic Book"/>
            </a:endParaRPr>
          </a:p>
        </p:txBody>
      </p:sp>
      <p:sp>
        <p:nvSpPr>
          <p:cNvPr id="483" name="Footer Placeholder 6"/>
          <p:cNvSpPr/>
          <p:nvPr/>
        </p:nvSpPr>
        <p:spPr>
          <a:xfrm>
            <a:off x="1143000" y="6356520"/>
            <a:ext cx="48769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1D64-2960-4286-8BA0-3EB1FDE547FD}"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Rectangle 2" descr=""/>
          <p:cNvPicPr/>
          <p:nvPr/>
        </p:nvPicPr>
        <p:blipFill>
          <a:blip r:embed="rId1"/>
          <a:stretch/>
        </p:blipFill>
        <p:spPr>
          <a:xfrm>
            <a:off x="103320" y="450720"/>
            <a:ext cx="8894520" cy="1152720"/>
          </a:xfrm>
          <a:prstGeom prst="rect">
            <a:avLst/>
          </a:prstGeom>
          <a:ln w="0">
            <a:noFill/>
          </a:ln>
        </p:spPr>
      </p:pic>
      <p:sp>
        <p:nvSpPr>
          <p:cNvPr id="486"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XAMS – In most courses, about 80% of the assessment is based on final exams which are held in May of the Grade 12 year.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Mock exams’ are held in February when we try to simulate the final examinations as closely as possible.</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real exams in May are all sent off to be marked by IB examiners.</a:t>
            </a:r>
            <a:endParaRPr b="0" lang="en-US" sz="3200" spc="-1" strike="noStrike">
              <a:solidFill>
                <a:srgbClr val="4e3b30"/>
              </a:solidFill>
              <a:latin typeface="Franklin Gothic Book"/>
            </a:endParaRPr>
          </a:p>
        </p:txBody>
      </p:sp>
      <p:sp>
        <p:nvSpPr>
          <p:cNvPr id="487"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8"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3AC2-0B17-4EF4-A05A-BC7951647360}"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Rectangle 2" descr=""/>
          <p:cNvPicPr/>
          <p:nvPr/>
        </p:nvPicPr>
        <p:blipFill>
          <a:blip r:embed="rId1"/>
          <a:stretch/>
        </p:blipFill>
        <p:spPr>
          <a:xfrm>
            <a:off x="103320" y="450720"/>
            <a:ext cx="8894520" cy="1152720"/>
          </a:xfrm>
          <a:prstGeom prst="rect">
            <a:avLst/>
          </a:prstGeom>
          <a:ln w="0">
            <a:noFill/>
          </a:ln>
        </p:spPr>
      </p:pic>
      <p:sp>
        <p:nvSpPr>
          <p:cNvPr id="49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NAL ASSESSMENT – Most IB courses have an element of ‘assessed coursework’.  This usually counts for at least 20% of the final grade.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ursework is graded internally by teachers and then samples are sent to the IB for ‘moderation’.</a:t>
            </a:r>
            <a:endParaRPr b="0" lang="en-US" sz="3200" spc="-1" strike="noStrike">
              <a:solidFill>
                <a:srgbClr val="4e3b30"/>
              </a:solidFill>
              <a:latin typeface="Franklin Gothic Book"/>
            </a:endParaRPr>
          </a:p>
        </p:txBody>
      </p:sp>
      <p:sp>
        <p:nvSpPr>
          <p:cNvPr id="491"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9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B5CA-A126-472F-AB04-D94EB518D026}"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103320" y="450720"/>
            <a:ext cx="8894520" cy="1152720"/>
          </a:xfrm>
          <a:prstGeom prst="rect">
            <a:avLst/>
          </a:prstGeom>
          <a:ln w="0">
            <a:noFill/>
          </a:ln>
        </p:spPr>
      </p:pic>
      <p:sp>
        <p:nvSpPr>
          <p:cNvPr id="494" name=""/>
          <p:cNvSpPr txBox="1"/>
          <p:nvPr/>
        </p:nvSpPr>
        <p:spPr>
          <a:xfrm>
            <a:off x="380880" y="1447920"/>
            <a:ext cx="82296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NAL ASSESSMENT –A warn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the candidate not providing work by the internal school deadline… is unacceptable”. (IBO, HoP)</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a:t>
            </a:r>
            <a:r>
              <a:rPr b="0" lang="en-GB" sz="3200" spc="-1" strike="noStrike">
                <a:solidFill>
                  <a:srgbClr val="4e3b30"/>
                </a:solidFill>
                <a:latin typeface="Franklin Gothic Book"/>
              </a:rPr>
              <a:t>No work for internal assessment… will result in no grade being awarded for the subject concern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Meet the deadlines!</a:t>
            </a:r>
            <a:endParaRPr b="0" lang="en-US" sz="3200" spc="-1" strike="noStrike">
              <a:solidFill>
                <a:srgbClr val="4e3b30"/>
              </a:solidFill>
              <a:latin typeface="Franklin Gothic Book"/>
            </a:endParaRPr>
          </a:p>
        </p:txBody>
      </p:sp>
      <p:sp>
        <p:nvSpPr>
          <p:cNvPr id="495"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96" name="Slide Number Placeholder 5"/>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BAA6-7A58-43C7-ADF3-0454587F66E5}"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2" descr=""/>
          <p:cNvPicPr/>
          <p:nvPr/>
        </p:nvPicPr>
        <p:blipFill>
          <a:blip r:embed="rId1"/>
          <a:stretch/>
        </p:blipFill>
        <p:spPr>
          <a:xfrm>
            <a:off x="103320" y="450720"/>
            <a:ext cx="8894520" cy="1152720"/>
          </a:xfrm>
          <a:prstGeom prst="rect">
            <a:avLst/>
          </a:prstGeom>
          <a:ln w="0">
            <a:noFill/>
          </a:ln>
        </p:spPr>
      </p:pic>
      <p:sp>
        <p:nvSpPr>
          <p:cNvPr id="498"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tudents take six courses and receive a final grade out of 7 (based on examinations + internal assessment) for each. This gives a total of 42 possible ‘points’</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tudents are also assessed on their Extended Essay and TOK and for these combined, can earn another 3 points.</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refore, the maximum total available for the IB diploma is 45 points</a:t>
            </a:r>
            <a:endParaRPr b="0" lang="en-US" sz="2800" spc="-1" strike="noStrike">
              <a:solidFill>
                <a:srgbClr val="4e3b30"/>
              </a:solidFill>
              <a:latin typeface="Franklin Gothic Book"/>
            </a:endParaRPr>
          </a:p>
        </p:txBody>
      </p:sp>
      <p:sp>
        <p:nvSpPr>
          <p:cNvPr id="499"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EF4F-484A-41E2-89E0-C66F808E7902}"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103320" y="450720"/>
            <a:ext cx="8894520" cy="115272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total of 24 points is required for a Diploma to be award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addition, students must score at least 12 points in their three Higher level subjects (with no grade 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nd at least 9 points in their three Standard level subjects (and not more that one grade 2).</a:t>
            </a:r>
            <a:endParaRPr b="0" lang="en-US" sz="3200" spc="-1" strike="noStrike">
              <a:solidFill>
                <a:srgbClr val="4e3b30"/>
              </a:solidFill>
              <a:latin typeface="Franklin Gothic Book"/>
            </a:endParaRPr>
          </a:p>
        </p:txBody>
      </p:sp>
      <p:sp>
        <p:nvSpPr>
          <p:cNvPr id="503" name="Footer Placeholder 6"/>
          <p:cNvSpPr/>
          <p:nvPr/>
        </p:nvSpPr>
        <p:spPr>
          <a:xfrm>
            <a:off x="533520" y="6356520"/>
            <a:ext cx="54864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B56B-EB15-4A53-91FA-878EAA28A9E8}"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103320" y="450720"/>
            <a:ext cx="8894520" cy="1152720"/>
          </a:xfrm>
          <a:prstGeom prst="rect">
            <a:avLst/>
          </a:prstGeom>
          <a:ln w="0">
            <a:noFill/>
          </a:ln>
        </p:spPr>
      </p:pic>
      <p:sp>
        <p:nvSpPr>
          <p:cNvPr id="50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glish A1 HL   5</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ndi H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s S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ology HL</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th Methods S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emistry SL</a:t>
            </a:r>
            <a:r>
              <a:rPr b="0" lang="en-US" sz="3200" spc="-1" strike="noStrike">
                <a:solidFill>
                  <a:srgbClr val="4e3b30"/>
                </a:solidFill>
                <a:latin typeface="Franklin Gothic Book"/>
              </a:rPr>
              <a:t>	</a:t>
            </a:r>
            <a:r>
              <a:rPr b="0" lang="en-US" sz="3200" spc="-1" strike="noStrike">
                <a:solidFill>
                  <a:srgbClr val="4e3b30"/>
                </a:solidFill>
                <a:latin typeface="Franklin Gothic Book"/>
              </a:rPr>
              <a:t>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K / Extended Essay +1</a:t>
            </a:r>
            <a:endParaRPr b="0" lang="en-US" sz="3200" spc="-1" strike="noStrike">
              <a:solidFill>
                <a:srgbClr val="4e3b30"/>
              </a:solidFill>
              <a:latin typeface="Franklin Gothic Book"/>
            </a:endParaRPr>
          </a:p>
        </p:txBody>
      </p:sp>
      <p:sp>
        <p:nvSpPr>
          <p:cNvPr id="507"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8"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0DBB-6F39-421F-B8E6-8C7595752FF0}"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Rectangle 2" descr=""/>
          <p:cNvPicPr/>
          <p:nvPr/>
        </p:nvPicPr>
        <p:blipFill>
          <a:blip r:embed="rId1"/>
          <a:stretch/>
        </p:blipFill>
        <p:spPr>
          <a:xfrm>
            <a:off x="103320" y="450720"/>
            <a:ext cx="8894520" cy="1152720"/>
          </a:xfrm>
          <a:prstGeom prst="rect">
            <a:avLst/>
          </a:prstGeom>
          <a:ln w="0">
            <a:noFill/>
          </a:ln>
        </p:spPr>
      </p:pic>
      <p:sp>
        <p:nvSpPr>
          <p:cNvPr id="51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ndi A1 HL   7</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glish B1 HL  </a:t>
            </a:r>
            <a:r>
              <a:rPr b="0" lang="en-US" sz="3200" spc="-1" strike="noStrike">
                <a:solidFill>
                  <a:srgbClr val="4e3b30"/>
                </a:solidFill>
                <a:latin typeface="Franklin Gothic Book"/>
              </a:rPr>
              <a:t>	</a:t>
            </a:r>
            <a:r>
              <a:rPr b="0" lang="en-US" sz="3200" spc="-1" strike="noStrike">
                <a:solidFill>
                  <a:srgbClr val="4e3b30"/>
                </a:solidFill>
                <a:latin typeface="Franklin Gothic Book"/>
              </a:rPr>
              <a:t>7</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s</a:t>
            </a:r>
            <a:r>
              <a:rPr b="0" lang="en-US" sz="3200" spc="-1" strike="noStrike">
                <a:solidFill>
                  <a:srgbClr val="4e3b30"/>
                </a:solidFill>
                <a:latin typeface="Franklin Gothic Book"/>
              </a:rPr>
              <a:t>	</a:t>
            </a:r>
            <a:r>
              <a:rPr b="0" lang="en-US" sz="3200" spc="-1" strike="noStrike">
                <a:solidFill>
                  <a:srgbClr val="4e3b30"/>
                </a:solidFill>
                <a:latin typeface="Franklin Gothic Book"/>
              </a:rPr>
              <a:t>SL   3</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ology SL</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ths SL 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ysics B HL</a:t>
            </a:r>
            <a:r>
              <a:rPr b="0" lang="en-US" sz="3200" spc="-1" strike="noStrike">
                <a:solidFill>
                  <a:srgbClr val="4e3b30"/>
                </a:solidFill>
                <a:latin typeface="Franklin Gothic Book"/>
              </a:rPr>
              <a:t>	</a:t>
            </a:r>
            <a:r>
              <a:rPr b="0" lang="en-US" sz="3200" spc="-1" strike="noStrike">
                <a:solidFill>
                  <a:srgbClr val="4e3b30"/>
                </a:solidFill>
                <a:latin typeface="Franklin Gothic Book"/>
              </a:rPr>
              <a:t>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K / Extended Essay +2</a:t>
            </a:r>
            <a:endParaRPr b="0" lang="en-US" sz="3200" spc="-1" strike="noStrike">
              <a:solidFill>
                <a:srgbClr val="4e3b30"/>
              </a:solidFill>
              <a:latin typeface="Franklin Gothic Book"/>
            </a:endParaRPr>
          </a:p>
        </p:txBody>
      </p:sp>
      <p:sp>
        <p:nvSpPr>
          <p:cNvPr id="511"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1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3A0B-9C6C-4E7C-947A-C7B4FD31B9BE}"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838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14" name="Slide Number Placeholder 2"/>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9FE9-1A10-471E-BE56-5CFF778AF6AA}"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515" name="Picture 2" descr="I:\DSC01576.JPG"/>
          <p:cNvPicPr/>
          <p:nvPr/>
        </p:nvPicPr>
        <p:blipFill>
          <a:blip r:embed="rId1"/>
          <a:stretch/>
        </p:blipFill>
        <p:spPr>
          <a:xfrm>
            <a:off x="-1447920" y="0"/>
            <a:ext cx="11201400" cy="6858000"/>
          </a:xfrm>
          <a:prstGeom prst="rect">
            <a:avLst/>
          </a:prstGeom>
          <a:ln w="0">
            <a:noFill/>
          </a:ln>
        </p:spPr>
      </p:pic>
      <p:pic>
        <p:nvPicPr>
          <p:cNvPr id="516" name="Picture 3" descr="I:\DSC01576.JPG"/>
          <p:cNvPicPr/>
          <p:nvPr/>
        </p:nvPicPr>
        <p:blipFill>
          <a:blip r:embed="rId2"/>
          <a:stretch/>
        </p:blipFill>
        <p:spPr>
          <a:xfrm>
            <a:off x="-37490400" y="1676520"/>
            <a:ext cx="10477440" cy="8594640"/>
          </a:xfrm>
          <a:prstGeom prst="rect">
            <a:avLst/>
          </a:prstGeom>
          <a:ln w="0">
            <a:noFill/>
          </a:ln>
        </p:spPr>
      </p:pic>
      <p:pic>
        <p:nvPicPr>
          <p:cNvPr id="517" name="Rectangle 9" descr=""/>
          <p:cNvPicPr/>
          <p:nvPr/>
        </p:nvPicPr>
        <p:blipFill>
          <a:blip r:embed="rId3"/>
          <a:stretch/>
        </p:blipFill>
        <p:spPr>
          <a:xfrm>
            <a:off x="3425760" y="2541600"/>
            <a:ext cx="5602320" cy="118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1"/>
          <p:cNvSpPr/>
          <p:nvPr/>
        </p:nvSpPr>
        <p:spPr>
          <a:xfrm>
            <a:off x="1066680" y="635652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3" name="Slide Number Placeholder 2"/>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F4BC-6BC1-475D-9B87-9C320FA88568}"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14" name="Rectangle 3" descr=""/>
          <p:cNvPicPr/>
          <p:nvPr/>
        </p:nvPicPr>
        <p:blipFill>
          <a:blip r:embed="rId1"/>
          <a:stretch/>
        </p:blipFill>
        <p:spPr>
          <a:xfrm>
            <a:off x="1292400" y="2846520"/>
            <a:ext cx="6565680" cy="3504960"/>
          </a:xfrm>
          <a:prstGeom prst="rect">
            <a:avLst/>
          </a:prstGeom>
          <a:ln w="0">
            <a:noFill/>
          </a:ln>
        </p:spPr>
      </p:pic>
      <p:pic>
        <p:nvPicPr>
          <p:cNvPr id="415" name="Rectangle 5" descr=""/>
          <p:cNvPicPr/>
          <p:nvPr/>
        </p:nvPicPr>
        <p:blipFill>
          <a:blip r:embed="rId2"/>
          <a:stretch/>
        </p:blipFill>
        <p:spPr>
          <a:xfrm>
            <a:off x="1639800" y="749160"/>
            <a:ext cx="5967360" cy="192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1"/>
          <p:cNvSpPr/>
          <p:nvPr/>
        </p:nvSpPr>
        <p:spPr>
          <a:xfrm>
            <a:off x="1066680" y="617220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7" name="Slide Number Placeholder 2"/>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3455-6401-48A6-A94B-9AF559A7F60C}"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
        <p:nvSpPr>
          <p:cNvPr id="418" name="Rectangle 3"/>
          <p:cNvSpPr/>
          <p:nvPr/>
        </p:nvSpPr>
        <p:spPr>
          <a:xfrm>
            <a:off x="1295280" y="1295280"/>
            <a:ext cx="7010640" cy="3989880"/>
          </a:xfrm>
          <a:prstGeom prst="rect">
            <a:avLst/>
          </a:prstGeom>
          <a:noFill/>
          <a:ln w="0">
            <a:noFill/>
          </a:ln>
        </p:spPr>
        <p:style>
          <a:lnRef idx="0"/>
          <a:fillRef idx="0"/>
          <a:effectRef idx="0"/>
          <a:fontRef idx="minor"/>
        </p:style>
        <p:txBody>
          <a:bodyPr lIns="90000" rIns="90000" tIns="46800" bIns="46800" anchor="t">
            <a:spAutoFit/>
          </a:bodyPr>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esent to you a thought process that will help you to find the right program for your grade 11 and 12.</a:t>
            </a:r>
            <a:endParaRPr b="0" lang="en-US" sz="2800" spc="-1" strike="noStrike">
              <a:solidFill>
                <a:srgbClr val="000000"/>
              </a:solidFill>
              <a:latin typeface="Verdana"/>
            </a:endParaRPr>
          </a:p>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troduce to you a top ranked course in the world, offering   academic challenge and all round development to students with a global outlook in a local scenario.</a:t>
            </a:r>
            <a:endParaRPr b="0" lang="en-US" sz="2800" spc="-1" strike="noStrike">
              <a:solidFill>
                <a:srgbClr val="000000"/>
              </a:solidFill>
              <a:latin typeface="Verdana"/>
            </a:endParaRPr>
          </a:p>
        </p:txBody>
      </p:sp>
      <p:sp>
        <p:nvSpPr>
          <p:cNvPr id="419" name="Rectangle 4"/>
          <p:cNvSpPr/>
          <p:nvPr/>
        </p:nvSpPr>
        <p:spPr>
          <a:xfrm>
            <a:off x="1613160" y="380880"/>
            <a:ext cx="2436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RPOS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a:t>
            </a:r>
            <a:r>
              <a:rPr b="0" i="1" lang="en-US" sz="3200" spc="-1" strike="noStrike">
                <a:solidFill>
                  <a:srgbClr val="4e3b30"/>
                </a:solidFill>
                <a:latin typeface="Franklin Gothic Book"/>
              </a:rPr>
              <a:t>The International Baccalaureate Organization’s Diploma Programme was created in 1968. It is a demanding pre-university course of study that leads to examinations. It is designed for highly motivated secondary school students aged 16 to 19.</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421" name="Footer Placeholder 5"/>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22"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3521-0DD7-48FC-830F-5178289D245E}"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1"/>
          <p:cNvSpPr/>
          <p:nvPr/>
        </p:nvSpPr>
        <p:spPr>
          <a:xfrm>
            <a:off x="1066680" y="649296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24" name="Slide Number Placeholder 2"/>
          <p:cNvSpPr/>
          <p:nvPr/>
        </p:nvSpPr>
        <p:spPr>
          <a:xfrm>
            <a:off x="6705720" y="6324480"/>
            <a:ext cx="21333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3635-7CF9-432C-9786-2944911A34FB}"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25" name="Picture 4" descr="curric model"/>
          <p:cNvPicPr/>
          <p:nvPr/>
        </p:nvPicPr>
        <p:blipFill>
          <a:blip r:embed="rId1"/>
          <a:stretch/>
        </p:blipFill>
        <p:spPr>
          <a:xfrm>
            <a:off x="0" y="0"/>
            <a:ext cx="9144000" cy="6477120"/>
          </a:xfrm>
          <a:prstGeom prst="rect">
            <a:avLst/>
          </a:prstGeom>
          <a:ln w="0">
            <a:noFill/>
          </a:ln>
        </p:spPr>
      </p:pic>
      <p:sp>
        <p:nvSpPr>
          <p:cNvPr id="426" name="Rectangle 5"/>
          <p:cNvSpPr/>
          <p:nvPr/>
        </p:nvSpPr>
        <p:spPr>
          <a:xfrm>
            <a:off x="606240" y="38088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BDP CORE REQUIREM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3320" y="189000"/>
            <a:ext cx="8894520" cy="16891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fontScale="94000"/>
          </a:bodyPr>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student takes 6 subject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plus Theory of Knowledge, CAS and an Extended Essay….)</a:t>
            </a:r>
            <a:endParaRPr b="0" lang="en-US" sz="2400" spc="-1" strike="noStrike">
              <a:solidFill>
                <a:srgbClr val="4e3b30"/>
              </a:solidFill>
              <a:latin typeface="Franklin Gothic Book"/>
            </a:endParaRPr>
          </a:p>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 subjects are taken at Higher Level (HL) : 240 hours in 2 year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5 x 60 min. lessons per (5-day)/6</a:t>
            </a:r>
            <a:r>
              <a:rPr b="0" lang="en-US" sz="2400" spc="-1" strike="noStrike" baseline="30000">
                <a:solidFill>
                  <a:srgbClr val="4e3b30"/>
                </a:solidFill>
                <a:latin typeface="Franklin Gothic Book"/>
              </a:rPr>
              <a:t>th</a:t>
            </a:r>
            <a:r>
              <a:rPr b="0" lang="en-US" sz="2400" spc="-1" strike="noStrike">
                <a:solidFill>
                  <a:srgbClr val="4e3b30"/>
                </a:solidFill>
                <a:latin typeface="Franklin Gothic Book"/>
              </a:rPr>
              <a:t> day activity/optional teaching week at JIRS</a:t>
            </a:r>
            <a:endParaRPr b="0" lang="en-US" sz="2400" spc="-1" strike="noStrike">
              <a:solidFill>
                <a:srgbClr val="4e3b30"/>
              </a:solidFill>
              <a:latin typeface="Franklin Gothic Book"/>
            </a:endParaRPr>
          </a:p>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 subjects are taken at Standard Level (SL) : 150 hours in 2 year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4 x 60 min. lessons per (5-day) week at JIRS</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long with the six subjects, each diploma candidate will do:Another course called Theory of Knowledge</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xtended Essay’</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ivity, Action and Service (CAS)</a:t>
            </a:r>
            <a:endParaRPr b="0" lang="en-US" sz="2400" spc="-1" strike="noStrike">
              <a:solidFill>
                <a:srgbClr val="4e3b30"/>
              </a:solidFill>
              <a:latin typeface="Franklin Gothic Book"/>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22200" indent="-32220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29"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A7DD-E147-4007-9939-371C1BD42ED8}"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133200" y="378000"/>
            <a:ext cx="8791560" cy="1603080"/>
          </a:xfrm>
          <a:prstGeom prst="rect">
            <a:avLst/>
          </a:prstGeom>
          <a:ln w="0">
            <a:noFill/>
          </a:ln>
        </p:spPr>
      </p:pic>
      <p:sp>
        <p:nvSpPr>
          <p:cNvPr id="432" name=""/>
          <p:cNvSpPr txBox="1"/>
          <p:nvPr/>
        </p:nvSpPr>
        <p:spPr>
          <a:xfrm>
            <a:off x="457200" y="2133360"/>
            <a:ext cx="8229600" cy="38862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NGUAGE A1</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s is usually the study of the candidate’s first language (mother tongue) or English</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language can be studied at  Higher or Standard level</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course is literature based</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NGUAGE A1</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tudents will study English  SL/HL at JIR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Footer Placeholder 6"/>
          <p:cNvSpPr/>
          <p:nvPr/>
        </p:nvSpPr>
        <p:spPr>
          <a:xfrm>
            <a:off x="914400" y="6356520"/>
            <a:ext cx="51055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6C83-538D-42F1-B08F-999FE9ACAAEF}"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
        <p:nvSpPr>
          <p:cNvPr id="435" name="Rectangle 7"/>
          <p:cNvSpPr/>
          <p:nvPr/>
        </p:nvSpPr>
        <p:spPr>
          <a:xfrm>
            <a:off x="3565800" y="1600200"/>
            <a:ext cx="170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 1</a:t>
            </a: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2600" y="324000"/>
            <a:ext cx="8985240" cy="1511280"/>
          </a:xfrm>
          <a:prstGeom prst="rect">
            <a:avLst/>
          </a:prstGeom>
          <a:ln w="0">
            <a:noFill/>
          </a:ln>
        </p:spPr>
      </p:pic>
      <p:sp>
        <p:nvSpPr>
          <p:cNvPr id="437" name=""/>
          <p:cNvSpPr txBox="1"/>
          <p:nvPr/>
        </p:nvSpPr>
        <p:spPr>
          <a:xfrm>
            <a:off x="457200" y="1371600"/>
            <a:ext cx="8229600" cy="4759200"/>
          </a:xfrm>
          <a:prstGeom prst="rect">
            <a:avLst/>
          </a:prstGeom>
          <a:noFill/>
          <a:ln w="0">
            <a:noFill/>
          </a:ln>
        </p:spPr>
        <p:txBody>
          <a:bodyPr anchor="t">
            <a:normAutofit/>
          </a:bodyPr>
          <a:p>
            <a:pPr marL="343080" indent="-343080">
              <a:lnSpc>
                <a:spcPct val="9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LANGUAGE B</a:t>
            </a:r>
            <a:endParaRPr b="0" lang="en-US" sz="40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is the study of a second language as a foreign language.</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ain focus is on language acquisition and development.</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econd language can also be studied at either Higher or Standard Level</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common combination of languages at our school would be English A with Hindi A1/B OR English A with French B/ Ab initio.</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38"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9"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9DC-D125-466E-A254-A310B0D3FB77}"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5:37:30Z</dcterms:created>
  <dc:creator>N.P. MURALI</dc:creator>
  <dc:description/>
  <dc:language>en-US</dc:language>
  <cp:lastModifiedBy>SARATHY</cp:lastModifiedBy>
  <dcterms:modified xsi:type="dcterms:W3CDTF">2010-10-17T18:29:48Z</dcterms:modified>
  <cp:revision>75</cp:revision>
  <dc:subject/>
  <dc:title>The IB Diploma</dc:title>
</cp:coreProperties>
</file>